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E73-7183-4FBB-96F0-16D6C9D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8BE-C732-4CE9-8B78-98495CAC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543-0285-4276-9917-C6AC6EA4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EB7-281B-420D-BF98-D9BE3ADB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942B-1671-437E-A641-43C3C7AE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0BA0-28AC-46F3-BE9C-12C221A8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2204-30E3-433F-8B69-FFC5EAC0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800F-6CE9-4B1F-8AE8-8038EE80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3CF-8651-4A5A-9A0D-0C84262B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0EB-2DDC-4688-9172-33D510A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D36F-4861-4082-AE2A-53111B0A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624-EAD6-48FF-BC87-2C0A6225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7BCD-3DA5-4FC8-84DD-2B6235D1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C48F-2840-4ED7-B736-21BF543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F7D-C5AE-4F61-BC8B-A5C1912D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82F1-31AF-447E-8333-3F0933D1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5B1-86D7-4401-8D88-8915DA17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AB5-072E-4ECA-9E75-5716D44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A86-1C68-4E37-88DE-F20C1FE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79D-F5DF-46D4-9A3A-75756AAB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4BD-E940-4D24-B3B7-7FCAE2B5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89C-6083-4E9B-A6DA-C4A98D9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BC6-9B6F-4753-A158-8580164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750-56FA-4272-BE42-6CCA13B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84A4-A20A-42D0-A251-8FE2549871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72A-E879-4391-910B-A97674D7BB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Me llamo ________      Clase 6NH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La fecha es el 27 de febrero del 2012   </a:t>
            </a:r>
            <a:endParaRPr b="0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1532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Propósito # 43: 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¿Para que clases estudias much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xto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Verdana"/>
              </a:rPr>
              <a:t>Entrevista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. R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,…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4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are the rules for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CONJUGATION  (“-ar” verbs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onouns in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d and take out the infinitive ending of the verb (“-ar”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ace the “-ar” with the correct end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1676520"/>
          <a:ext cx="3581640" cy="4495320"/>
        </p:xfrm>
        <a:graphic>
          <a:graphicData uri="http://schemas.openxmlformats.org/drawingml/2006/table">
            <a:tbl>
              <a:tblPr/>
              <a:tblGrid>
                <a:gridCol w="1791000"/>
                <a:gridCol w="1790640"/>
              </a:tblGrid>
              <a:tr h="64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Mirar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d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34880" y="2944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88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880" y="4662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1752480"/>
            <a:ext cx="457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7524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315200" y="17524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54320" y="2286000"/>
            <a:ext cx="87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895480"/>
            <a:ext cx="10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560" y="3733920"/>
            <a:ext cx="86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560" y="4572000"/>
            <a:ext cx="154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4880" y="5334120"/>
            <a:ext cx="106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cc00"/>
                </a:solidFill>
                <a:latin typeface="Arial"/>
              </a:rPr>
              <a:t>Mir</a:t>
            </a:r>
            <a:r>
              <a:rPr b="1" lang="es-ES_tradnl" sz="26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37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juga los verbos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036800"/>
          <a:ext cx="8381880" cy="566892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4120"/>
                <a:gridCol w="2095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Tocar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Cant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Prepar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0" lang="es-ES_tradnl" sz="25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To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pia y complet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Historieta 5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p. R13 (1-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p. R8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&amp;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R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666880"/>
            <a:ext cx="731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02-25T22:46:21Z</dcterms:modified>
  <cp:revision>10</cp:revision>
  <dc:subject/>
  <dc:title>Me llamo ________ Clase 6NH La fecha es el 15 de febrero del 2012</dc:title>
</cp:coreProperties>
</file>